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28EB-ADC4-4319-92D4-EDAC9CC7A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AF37-6E7E-453E-A654-E41A142E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22BA-CC73-4B38-A0E9-E4555324D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5A4F-CD7E-470C-88A9-60DE1C62B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C702-59E2-4F38-8275-CFCEC254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8B9F-FBC6-46CE-B4EC-BAECCDB4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E54C-E6AE-4645-A157-3529B9F8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3E30-DAC5-4133-A690-57C22B13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F5C3-E5E6-4BF7-8420-800EA2E7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1C17-ED1D-4850-9F96-0B614953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BB87-EEAF-40CD-B7C2-BF517E5D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E6F8-3706-4BB8-A617-A84B7A08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2787-99F3-4522-98CF-2621D0AC38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1133640" y="237960"/>
            <a:ext cx="8016840" cy="3889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Documents and Settings\Admin\Рабочий стол\ИКТО\IMGP0237l.jpg"/>
          <p:cNvPicPr/>
          <p:nvPr/>
        </p:nvPicPr>
        <p:blipFill>
          <a:blip r:embed="rId2"/>
          <a:stretch/>
        </p:blipFill>
        <p:spPr>
          <a:xfrm>
            <a:off x="1878120" y="3432240"/>
            <a:ext cx="583380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85840" y="357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араболу мы наблюдаем в реальной жизни, как траекторию движения какого-либо тела. Баскетболист бросает мяч и он летит в корзину почти по параболе. Струя фонтана «рисует» линию, которая близка к парабо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C:\Documents and Settings\Admin\Рабочий стол\ИКТО\ИКТО12\Рисунок1.jpg"/>
          <p:cNvPicPr/>
          <p:nvPr/>
        </p:nvPicPr>
        <p:blipFill>
          <a:blip r:embed="rId1"/>
          <a:stretch/>
        </p:blipFill>
        <p:spPr>
          <a:xfrm>
            <a:off x="1523880" y="3365640"/>
            <a:ext cx="553572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Admin\Рабочий стол\ИКТО\0_28c7_466da2b7_XL.jpg"/>
          <p:cNvPicPr/>
          <p:nvPr/>
        </p:nvPicPr>
        <p:blipFill>
          <a:blip r:embed="rId1"/>
          <a:stretch/>
        </p:blipFill>
        <p:spPr>
          <a:xfrm>
            <a:off x="890640" y="2614680"/>
            <a:ext cx="5351400" cy="4365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Documents and Settings\Admin\Рабочий стол\ИКТО\ZGHU2RCAM5Q2USCAEDUGVQCAZKYOKVCA8YIDFECAWKJ6QNCASTYPM2CAX4OHFMCA5O0BXPCAYRAJB8CATVYHM3CALCW7ZXCAEOOW13CA489PT5CAECJP1XCAVBS3MDCA2RLHTTCAO50AY7CAN8GA8XCA6III6Y.jpg"/>
          <p:cNvPicPr/>
          <p:nvPr/>
        </p:nvPicPr>
        <p:blipFill>
          <a:blip r:embed="rId2"/>
          <a:stretch/>
        </p:blipFill>
        <p:spPr>
          <a:xfrm>
            <a:off x="5389560" y="590400"/>
            <a:ext cx="3687840" cy="310356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7" descr=""/>
          <p:cNvPicPr/>
          <p:nvPr/>
        </p:nvPicPr>
        <p:blipFill>
          <a:blip r:embed="rId3"/>
          <a:stretch/>
        </p:blipFill>
        <p:spPr>
          <a:xfrm>
            <a:off x="-6480" y="146160"/>
            <a:ext cx="6772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17:55:30Z</dcterms:created>
  <dc:creator>Игорь</dc:creator>
  <dc:description/>
  <dc:language>en-US</dc:language>
  <cp:lastModifiedBy>TIGROID</cp:lastModifiedBy>
  <dcterms:modified xsi:type="dcterms:W3CDTF">2010-06-03T12:36:40Z</dcterms:modified>
  <cp:revision>5</cp:revision>
  <dc:subject/>
  <dc:title>Слайд 1</dc:title>
</cp:coreProperties>
</file>